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wmf" ContentType="image/x-wmf"/>
  <Override PartName="/ppt/media/image14.png" ContentType="image/png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10.wmf" ContentType="image/x-wmf"/>
  <Override PartName="/ppt/media/image22.png" ContentType="image/png"/>
  <Override PartName="/ppt/media/image4.wmf" ContentType="image/x-wmf"/>
  <Override PartName="/ppt/media/image20.gif" ContentType="image/gif"/>
  <Override PartName="/ppt/media/image21.wmf" ContentType="image/x-wmf"/>
  <Override PartName="/ppt/media/image18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6.jpeg" ContentType="image/jpeg"/>
  <Override PartName="/ppt/media/image5.wmf" ContentType="image/x-wmf"/>
  <Override PartName="/ppt/media/applause.wav" ContentType="audio/x-wav"/>
  <Override PartName="/ppt/media/image2.wmf" ContentType="image/x-wmf"/>
  <Override PartName="/ppt/media/image15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C9BF-F3FC-44CC-89CE-522297D7F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8DAF-E714-4B0F-BEA8-F1156C7EF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153F-89AA-4C91-8366-321792BDB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5E60-C67E-4EAA-9B68-3C8574DB0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9046-983C-4D90-9F2E-7B36315D5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AA66-0E69-44D6-B869-96E1302F9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4F42-2D47-4A71-8985-4A4694B60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35D3-9403-4657-8758-1E0AB597A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D33B-6BA3-46EB-ADF3-2BE653FA0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C124-8C53-4785-BA27-47E7DD6B2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55BA-4C0A-4583-93BC-D69779A74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9DDE-AA31-4523-8591-097DF9E46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425B-E234-4A7C-B26C-97515C508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1439-760F-4660-9C0B-C9E4428C4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E647-4D36-4E95-A1D0-C19AEFF3D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25E7-2BC1-4554-A1F5-54D647E4E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26D2-70AC-4874-9419-F0B901B3F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A2EB-FC56-4ECF-8E06-8F13F6055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0DDF-2F29-480E-A2F7-C0255C872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64A0-B84B-4702-8826-938F398ED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71C9-B4BC-4381-B938-DC117A587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C98F-224C-44AE-A418-D7A2A494A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14FE-E03D-4D0F-85B2-D87622D0A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B7AA-4B85-46E3-932E-C1740EB1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F495-61E5-4957-B95E-3BDE6C0C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D2AA-D059-49A1-9A01-5031B6D7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220-61A0-4645-AC87-4ED08ACF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D56C-F25C-4B3B-9F2F-8617BEC4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A550-A776-414E-B877-A7DD62F8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F0B5-5955-42CA-A9C6-6E855112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DE37-FAF5-4FBF-8F7C-9D988A25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1A8A-115F-4BA9-A22C-8E20334E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EFB5-4FC9-44A2-B99A-23067D1A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2996-D396-4047-B264-AA9BA2F5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943-3550-44EF-AAED-2A88E65D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7DC1-8A73-4F48-ACC2-FD45519F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1053-9BE9-4A01-A726-632A7B2C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262C-312D-4930-B993-BB0EF780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38FD-AFE6-45D0-BBE6-E9E0CC26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F90A-B66B-4A0C-8C44-ED329B31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782-5820-42F2-8925-9B509388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4FF-BA1F-47EE-8F87-6B8EA84C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B1C-C951-405E-9134-01556A63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A7E-1CBB-42D3-97E8-3FE9B1A2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F84-4DD2-437F-9D8C-8AC4E4B0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1F9-B0F6-4C3D-B5BF-45BE6A67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A99-053F-4620-B35F-A8AAF8E2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B4AD-E1A0-45D7-BC83-3DFFD281D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7896-5F2D-4244-BAEB-E9D0D5E65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2852640"/>
            <a:ext cx="7701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OS MEDIOS DE COMUNICACIÓN MASIVA Y EDUC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2880" y="4190760"/>
            <a:ext cx="73137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. Yolanda Ramírez Villaco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3" descr="MCj02325950000[1]"/>
          <p:cNvPicPr/>
          <p:nvPr/>
        </p:nvPicPr>
        <p:blipFill>
          <a:blip r:embed="rId1"/>
          <a:stretch/>
        </p:blipFill>
        <p:spPr>
          <a:xfrm>
            <a:off x="2571840" y="642960"/>
            <a:ext cx="3632040" cy="1258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rincipales M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71360" y="147492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Publicidad: es esencialmente come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Propaganda: es esencialmente p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Prensa: el “cuarto pod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Cine: impacto emotivo y capacidad de sí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adio: es el ámbito de la noti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Televisión: atracción de naturaleza sicológ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2" descr="MCj01977610000[1]"/>
          <p:cNvPicPr/>
          <p:nvPr/>
        </p:nvPicPr>
        <p:blipFill>
          <a:blip r:embed="rId1"/>
          <a:stretch/>
        </p:blipFill>
        <p:spPr>
          <a:xfrm>
            <a:off x="6858000" y="5072040"/>
            <a:ext cx="2000160" cy="154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4320" y="124920"/>
            <a:ext cx="786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Arial"/>
              </a:rPr>
              <a:t>COMO MANEJAR LOS MEDIOS PARA SER EFICIENTES AYUDAS DE LA COMUNICACION INTERPERSON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FIN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"/>
              </a:rPr>
              <a:t>PU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"/>
              </a:rPr>
              <a:t>FORMAS DE 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SELECCIONAR ESTRATEGIA PEDAGOG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"/>
              </a:rPr>
              <a:t>MOTIV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"/>
              </a:rPr>
              <a:t>PRESENTACION DE EXP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"/>
              </a:rPr>
              <a:t>PROMOCION Y CONDUCCION DEL DEB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"/>
              </a:rPr>
              <a:t>ORIENTAR LA TOMA DE DECI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"/>
              </a:rPr>
              <a:t>REFORZAMIENTO DE CONOCIMI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Arial"/>
              </a:rPr>
              <a:t>SEGUIMIENTO AL PROCESO DE APRENDIZ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MCj03342740000[1]"/>
          <p:cNvPicPr/>
          <p:nvPr/>
        </p:nvPicPr>
        <p:blipFill>
          <a:blip r:embed="rId1"/>
          <a:stretch/>
        </p:blipFill>
        <p:spPr>
          <a:xfrm>
            <a:off x="6227640" y="1557360"/>
            <a:ext cx="1573200" cy="182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</a:rPr>
              <a:t>LA TELE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47560" y="1701720"/>
            <a:ext cx="7313400" cy="4680000"/>
          </a:xfrm>
          <a:prstGeom prst="rect">
            <a:avLst/>
          </a:prstGeom>
          <a:solidFill>
            <a:srgbClr val="def6f1">
              <a:alpha val="8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utilización de la TV. puede evaluarse desde una perspectiva didáctica y pedagógica. Didácticamente DEBE considerarse esta afirmación: 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el uso de la TV. y los medios audiovisuales no puede entenderse con exclus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olo podrá tener sentido instructivo y educativo en la medida en que se lo use en combinación con otros procedimientos que estimulen la motivación y actividad docentes. No solo hay que considerar el contexto educativo y didáctico, sino también el contexto humano y socio-económico en ge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MPj04074430000[1]"/>
          <p:cNvPicPr/>
          <p:nvPr/>
        </p:nvPicPr>
        <p:blipFill>
          <a:blip r:embed="rId1"/>
          <a:stretch/>
        </p:blipFill>
        <p:spPr>
          <a:xfrm>
            <a:off x="6300720" y="189000"/>
            <a:ext cx="210024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Los rasgos de los mensajes sociales que reciben los menores a través de la televisión,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03280" y="1711440"/>
            <a:ext cx="731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stimulación de las opiniones estereotipadas respecto a temas sociales. Lógicamente también se puede lograr el efecto contrario y más deseable que es la eliminación de estereotip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stimulación de sentimientos adversivos o de aceptación de los grupos sociales minoritari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Los rasgos de los mensajes sociales que reciben los menores a través de la televisión,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03280" y="1711440"/>
            <a:ext cx="7561440" cy="4525920"/>
          </a:xfrm>
          <a:prstGeom prst="rect">
            <a:avLst/>
          </a:prstGeom>
          <a:solidFill>
            <a:srgbClr val="8dc6ff">
              <a:alpha val="4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ducción o exaltación del etnocentrismo nacio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Impacto de los fines sobre las opin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conocimiento de personajes o identificación con ellos. También aprendizaje de la capacidad de predicación dada la recurrencia de programas, publicidad y estructura narrativa de los fil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Esto implica que los niños pueden utilizar las similitudes entre los personajes cinematográficos y las personas reales, para establecer generalidades del comportamiento hum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Los rasgos de los mensajes sociales que reciben los menores a través de la televisión,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03280" y="1711440"/>
            <a:ext cx="74167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ayores poderes de transmisión de mensajes emocionales, tanto positivos como negativos, unidos a la percepción de realidades que los acompañ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prendizaje del papel de consumido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MCj03974360000[1]"/>
          <p:cNvPicPr/>
          <p:nvPr/>
        </p:nvPicPr>
        <p:blipFill>
          <a:blip r:embed="rId1"/>
          <a:stretch/>
        </p:blipFill>
        <p:spPr>
          <a:xfrm>
            <a:off x="5940360" y="4581360"/>
            <a:ext cx="2160720" cy="1151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MCj03967300000[1]"/>
          <p:cNvPicPr/>
          <p:nvPr/>
        </p:nvPicPr>
        <p:blipFill>
          <a:blip r:embed="rId2"/>
          <a:stretch/>
        </p:blipFill>
        <p:spPr>
          <a:xfrm>
            <a:off x="2050920" y="4508640"/>
            <a:ext cx="1825920" cy="1130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demo.claroline.net/claroline/backends/download.php?url=LzIwMDgwNzE4X1RJQ1MucG5n&amp;cidReset=true&amp;cidReq=TICEDU9028"/>
          <p:cNvPicPr/>
          <p:nvPr/>
        </p:nvPicPr>
        <p:blipFill>
          <a:blip r:embed="rId1"/>
          <a:stretch/>
        </p:blipFill>
        <p:spPr>
          <a:xfrm>
            <a:off x="6881760" y="0"/>
            <a:ext cx="2262240" cy="2136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4280" y="142560"/>
            <a:ext cx="56246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Las Tecnologías de Información y Comunicación - 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90440" y="1332000"/>
            <a:ext cx="683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Arial"/>
              </a:rPr>
              <a:t>Son aquellas herramientas computacionales e informáticas que procesan, almacenan, sintetizan, recuperan y presentan información representada de la más variada form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Arial"/>
              </a:rPr>
              <a:t>Conjunto de herramientas, soportes y canales para el tratamiento y acceso a la inform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Arial"/>
              </a:rPr>
              <a:t>Constituyen nuevos soportes y canales para dar forma, registrar, almacenar y difundir contenidos informacion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214200"/>
            <a:ext cx="7313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Las TICs y la edu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4280" y="1285920"/>
            <a:ext cx="731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El uso pedagógico de estas herramientas tecnológicas debe vincularse al desarrollo de potencialidades, orientadas a la construcción de conocimiento y formación de un ciudadano y una ciudadana con principios, virtudes y valores de libertad, cooperación, solidaridad convivencia, unidad e integración, que garantice la dignidad y el bienestar individual y colec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http://paojuanpa.files.wordpress.com/2009/03/las-tics.jpg"/>
          <p:cNvPicPr/>
          <p:nvPr/>
        </p:nvPicPr>
        <p:blipFill>
          <a:blip r:embed="rId1"/>
          <a:stretch/>
        </p:blipFill>
        <p:spPr>
          <a:xfrm>
            <a:off x="4071960" y="435780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000080" y="1357200"/>
            <a:ext cx="79819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800" spc="-1" strike="noStrike">
                <a:solidFill>
                  <a:srgbClr val="000000"/>
                </a:solidFill>
                <a:latin typeface="Arial"/>
              </a:rPr>
              <a:t>Reconocer el potencial que ofrecen las TIC para la construcción de una sociedad que respete al ser humano, al ambiente y la diversidad de entornos socioculturales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Usar las aplicaciones de escritorio en el desarrollo de proyectos, la elaboración de metodologías, interacción con el entorno social, el procesamiento de la información y la presentación de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1425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ORGANIZACIÓN DE LOS APRENDIZAJES</a:t>
            </a:r>
            <a:br>
              <a:rPr sz="2800"/>
            </a:br>
            <a:r>
              <a:rPr b="1" lang="es-PE" sz="2800" spc="-1" strike="noStrike">
                <a:solidFill>
                  <a:srgbClr val="000099"/>
                </a:solidFill>
                <a:latin typeface="Arial"/>
              </a:rPr>
              <a:t>Y LA INCLUSIÓN DE LAS TECNOLOG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http://blog.pucp.edu.pe/media/2064/20080614-tic.jpg"/>
          <p:cNvPicPr/>
          <p:nvPr/>
        </p:nvPicPr>
        <p:blipFill>
          <a:blip r:embed="rId1"/>
          <a:stretch/>
        </p:blipFill>
        <p:spPr>
          <a:xfrm>
            <a:off x="6786720" y="5357880"/>
            <a:ext cx="2071440" cy="1350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http://bp0.blogger.com/_xT4B9UeoGLs/Rz5o-MO4fWI/AAAAAAAAAFM/YuN1pLITTkk/s320/Copia+de+cerrebro.bmp"/>
          <p:cNvPicPr/>
          <p:nvPr/>
        </p:nvPicPr>
        <p:blipFill>
          <a:blip r:embed="rId1"/>
          <a:stretch/>
        </p:blipFill>
        <p:spPr>
          <a:xfrm>
            <a:off x="6715080" y="142884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ttp://bp1.blogger.com/_R6Iqr8JiOjs/Ri0dYfE5GuI/AAAAAAAAAAk/Z2oGu1S7cpA/s320/tic%27s.jpg"/>
          <p:cNvPicPr/>
          <p:nvPr/>
        </p:nvPicPr>
        <p:blipFill>
          <a:blip r:embed="rId2"/>
          <a:stretch/>
        </p:blipFill>
        <p:spPr>
          <a:xfrm>
            <a:off x="6797520" y="4357800"/>
            <a:ext cx="2181240" cy="20714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ORGANIZACIÓN DE LOS APRENDIZAJES</a:t>
            </a:r>
            <a:br>
              <a:rPr sz="2800"/>
            </a:br>
            <a:r>
              <a:rPr b="1" lang="es-PE" sz="2800" spc="-1" strike="noStrike">
                <a:solidFill>
                  <a:srgbClr val="000099"/>
                </a:solidFill>
                <a:latin typeface="Arial"/>
              </a:rPr>
              <a:t>Y LA INCLUSIÓN DE LAS TECNOLOG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56800" y="1457280"/>
            <a:ext cx="60721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Buscar, seleccionar y procesar información para los aprendizajes a partir de medios de comunicación e información (radio, TV, prensa, cine, Internet, entre otros) y softwares educativos (tutoriales, simuladores, enciclopedias, entre otros) = </a:t>
            </a:r>
            <a:r>
              <a:rPr b="1" i="1" lang="es-PE" sz="2400" spc="-1" strike="noStrike">
                <a:solidFill>
                  <a:srgbClr val="ff0000"/>
                </a:solidFill>
                <a:latin typeface="Arial"/>
              </a:rPr>
              <a:t>enfoque multidisciplinario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sarrollar ambientes de aprendizaje en línea: uso de </a:t>
            </a:r>
            <a:r>
              <a:rPr b="1" lang="es-PE" sz="2400" spc="-1" strike="noStrike">
                <a:solidFill>
                  <a:srgbClr val="000099"/>
                </a:solidFill>
                <a:latin typeface="Arial"/>
              </a:rPr>
              <a:t>espacios virtuales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 organización y difusión de conoc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RAICES DEL VERBO COMUNI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5640" y="1599840"/>
            <a:ext cx="370044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El más usu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Asimila comunicar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inform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ivulg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transmiti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572000" y="1600200"/>
            <a:ext cx="438300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El más antigu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roviene de la palabra latina “comunicar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estar en rela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oner en comú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2556000" y="3789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6948360" y="3789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403280" y="4508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RESTRI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435640" y="4437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AMPLIA Y ABI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MCj03342680000[1]"/>
          <p:cNvPicPr/>
          <p:nvPr/>
        </p:nvPicPr>
        <p:blipFill>
          <a:blip r:embed="rId1"/>
          <a:stretch/>
        </p:blipFill>
        <p:spPr>
          <a:xfrm>
            <a:off x="5940360" y="5126040"/>
            <a:ext cx="1670040" cy="1616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MCj03341020000[1]"/>
          <p:cNvPicPr/>
          <p:nvPr/>
        </p:nvPicPr>
        <p:blipFill>
          <a:blip r:embed="rId2"/>
          <a:stretch/>
        </p:blipFill>
        <p:spPr>
          <a:xfrm>
            <a:off x="1852560" y="5068800"/>
            <a:ext cx="1206720" cy="138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Funcionalidad de las TICs en la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85920" y="1457280"/>
            <a:ext cx="76960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Fuente de </a:t>
            </a:r>
            <a:r>
              <a:rPr b="1" lang="es-PE" sz="2800" spc="-1" strike="noStrike">
                <a:solidFill>
                  <a:srgbClr val="000099"/>
                </a:solidFill>
                <a:latin typeface="Arial"/>
              </a:rPr>
              <a:t>información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 (hipermedi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Canal de </a:t>
            </a:r>
            <a:r>
              <a:rPr b="1" lang="es-PE" sz="2800" spc="-1" strike="noStrike">
                <a:solidFill>
                  <a:srgbClr val="000099"/>
                </a:solidFill>
                <a:latin typeface="Arial"/>
              </a:rPr>
              <a:t>comunicación interpersonal 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y para el trabajo colaborativo y para el intercambio de información e ideas (e-mail, foros telemátic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Medio de </a:t>
            </a:r>
            <a:r>
              <a:rPr b="1" lang="es-PE" sz="2800" spc="-1" strike="noStrike">
                <a:solidFill>
                  <a:srgbClr val="000099"/>
                </a:solidFill>
                <a:latin typeface="Arial"/>
              </a:rPr>
              <a:t>expresión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 y para la </a:t>
            </a:r>
            <a:r>
              <a:rPr b="1" lang="es-PE" sz="2800" spc="-1" strike="noStrike">
                <a:solidFill>
                  <a:srgbClr val="000099"/>
                </a:solidFill>
                <a:latin typeface="Arial"/>
              </a:rPr>
              <a:t>creación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 (procesadores de textos y gráficos, editores de páginas web y presentaciones multimedia, cámara de víd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Funcionalidad de las TICs en la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305000" y="1571400"/>
            <a:ext cx="769608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99"/>
                </a:solidFill>
                <a:latin typeface="Arial"/>
              </a:rPr>
              <a:t>Instrumento cognitivo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y para procesar la información: hojas de cálculo, gestores de bases de dato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99"/>
                </a:solidFill>
                <a:latin typeface="Arial"/>
              </a:rPr>
              <a:t>Instrumento para la gestión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, ya que automatizan diversos trabajos de la gestión de los centros: secretaría, acción tutorial, asistencias, bibliotec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99"/>
                </a:solidFill>
                <a:latin typeface="Arial"/>
              </a:rPr>
              <a:t>Recurso interactivo para el aprendizaje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. Los materiales didácticos multimedia informan, entrenan, simulan guían aprendizajes, motiva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Medio lúdico y para el desarrollo psicomotor y </a:t>
            </a:r>
            <a:r>
              <a:rPr b="1" lang="es-PE" sz="2400" spc="-1" strike="noStrike">
                <a:solidFill>
                  <a:srgbClr val="def6f1"/>
                </a:solidFill>
                <a:latin typeface="Arial"/>
              </a:rPr>
              <a:t>cogn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i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3 Rectángulo" descr=""/>
          <p:cNvPicPr/>
          <p:nvPr/>
        </p:nvPicPr>
        <p:blipFill>
          <a:blip r:embed="rId1"/>
          <a:stretch/>
        </p:blipFill>
        <p:spPr>
          <a:xfrm>
            <a:off x="1066680" y="1427040"/>
            <a:ext cx="6066000" cy="3462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mains-05"/>
          <p:cNvPicPr/>
          <p:nvPr/>
        </p:nvPicPr>
        <p:blipFill>
          <a:blip r:embed="rId2"/>
          <a:stretch/>
        </p:blipFill>
        <p:spPr>
          <a:xfrm>
            <a:off x="5786280" y="4000680"/>
            <a:ext cx="2286000" cy="2071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MCj03357390000[1]"/>
          <p:cNvPicPr/>
          <p:nvPr/>
        </p:nvPicPr>
        <p:blipFill>
          <a:blip r:embed="rId3"/>
          <a:stretch/>
        </p:blipFill>
        <p:spPr>
          <a:xfrm>
            <a:off x="1143000" y="357120"/>
            <a:ext cx="2001960" cy="1857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http://files.nireblog.com/blogs2/eadmin/files/sistemas_png.PNG"/>
          <p:cNvPicPr/>
          <p:nvPr/>
        </p:nvPicPr>
        <p:blipFill>
          <a:blip r:embed="rId4"/>
          <a:stretch/>
        </p:blipFill>
        <p:spPr>
          <a:xfrm>
            <a:off x="6286680" y="285840"/>
            <a:ext cx="246348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5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</a:rPr>
              <a:t>MODELOS DE COMUNIC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258920" y="1844640"/>
            <a:ext cx="1944720" cy="1008000"/>
          </a:xfrm>
          <a:prstGeom prst="rightArrow">
            <a:avLst>
              <a:gd name="adj1" fmla="val 50000"/>
              <a:gd name="adj2" fmla="val 482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851280" y="1987560"/>
            <a:ext cx="1728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6372360" y="1844640"/>
            <a:ext cx="194472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258920" y="21319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068720" y="21798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443640" y="2060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763640" y="32688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498920" y="32115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7164360" y="32115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2340000" y="350028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5148360" y="350028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067280" y="4149720"/>
            <a:ext cx="48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LA TRANSMISION DE MENSAJES ES EN FORMA LINEAL, UNIDIRECCIONAL, QUE ACTUA DESDE EL QUE SABE AL QUE IGNORA, DESDE EL DOMINANTE AL DOMI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7" descr="MCj03341280000[1]"/>
          <p:cNvPicPr/>
          <p:nvPr/>
        </p:nvPicPr>
        <p:blipFill>
          <a:blip r:embed="rId1"/>
          <a:stretch/>
        </p:blipFill>
        <p:spPr>
          <a:xfrm>
            <a:off x="1619280" y="4508640"/>
            <a:ext cx="1089000" cy="1819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16"/>
          <p:cNvSpPr/>
          <p:nvPr/>
        </p:nvSpPr>
        <p:spPr>
          <a:xfrm rot="10800000">
            <a:off x="5867280" y="1844640"/>
            <a:ext cx="2881440" cy="1008000"/>
          </a:xfrm>
          <a:prstGeom prst="rightArrow">
            <a:avLst>
              <a:gd name="adj1" fmla="val 50000"/>
              <a:gd name="adj2" fmla="val 714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</a:rPr>
              <a:t>MODELOS DE COMUNIC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611280" y="1844640"/>
            <a:ext cx="2881080" cy="1008000"/>
          </a:xfrm>
          <a:prstGeom prst="rightArrow">
            <a:avLst>
              <a:gd name="adj1" fmla="val 50000"/>
              <a:gd name="adj2" fmla="val 714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851280" y="1987560"/>
            <a:ext cx="1728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826920" y="2131920"/>
            <a:ext cx="259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</a:rPr>
              <a:t>INTERLOCU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068720" y="21798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227640" y="2060640"/>
            <a:ext cx="26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Arial"/>
              </a:rPr>
              <a:t>INTERLOCU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763640" y="321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498920" y="32115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7307280" y="31971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2340000" y="350028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3851280" y="4365720"/>
            <a:ext cx="489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TRANSMISION DE MENSAJES PERMITE SOCIALIZAR EL CONOCIMIENTO O SABER, COMPARTIR INFORMACION Y GENERAR PLENA PARTICIPACION DE LOS INVOLUCRADOS EN LA COMUNIC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7"/>
          <p:cNvSpPr/>
          <p:nvPr/>
        </p:nvSpPr>
        <p:spPr>
          <a:xfrm flipH="1">
            <a:off x="5219640" y="3500280"/>
            <a:ext cx="1873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8" descr="j0233018"/>
          <p:cNvPicPr/>
          <p:nvPr/>
        </p:nvPicPr>
        <p:blipFill>
          <a:blip r:embed="rId1"/>
          <a:stretch/>
        </p:blipFill>
        <p:spPr>
          <a:xfrm>
            <a:off x="1042920" y="4365720"/>
            <a:ext cx="2149560" cy="2182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LOS MENSAJES EN LA COMUNIC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042920" y="1268280"/>
            <a:ext cx="2665440" cy="14655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SI EL VALOR DEL MENSAJE ES MAXIMO PARA EL EMISOR Y MINIMO PARA EL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042920" y="2997360"/>
            <a:ext cx="259236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SI EL VALOR DEL MENSAJE ES IGUAL PARA EL EMISOR Y PARA EL RE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900000" y="4653000"/>
            <a:ext cx="2880000" cy="20142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SI EL VALOR DEL MENSAJE ES MAXIMO PARA EL RECEPTOR Y PARTICIPA DE LA PRODUCCION Y REPRODUCCION DE MENS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3851280" y="1844640"/>
            <a:ext cx="865080" cy="5047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3851280" y="5373720"/>
            <a:ext cx="792000" cy="431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3851280" y="3284640"/>
            <a:ext cx="792000" cy="5047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5003640" y="1628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MANIPULACION: los mensajes son i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4788000" y="508464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COMUNICACION: los mensajes son construidos, en interés mut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4859280" y="306864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INFORMACION: los mensajes son compar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otas Introductorias sobre los M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357200"/>
            <a:ext cx="731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Medios de Comunicación Masiva influyen sobre las personas, modificando sus modelos de vida, sus elecciones, sus costumbres, el consumo y la opinión pública.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cada vez mayor la importancia de los medios masivos y en particular de la televisión. Esta influye sobre la forma de actuar o de pensar de las personas, logra modificar la forma en que los individuos conocen y comprenden la realidad que los ro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j03342860000[1]"/>
          <p:cNvPicPr/>
          <p:nvPr/>
        </p:nvPicPr>
        <p:blipFill>
          <a:blip r:embed="rId1"/>
          <a:stretch/>
        </p:blipFill>
        <p:spPr>
          <a:xfrm>
            <a:off x="7429680" y="4786200"/>
            <a:ext cx="1501560" cy="1817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otas Introductorias sobre los M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imagen, hoy constituye el elemento más determinante de las características de nuestra interacción. Cantidad de mensajes nos son transmitidos a través de los MCM, que utilizan fundamentalmente la ima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Según estudios realizados por la UNESCO, mientras que a través del oído se percibe un 20% de comunicaciones y a través de la vista un 30%, cuando se da la combinación de ambos sentidos el porcentaje de eficacia en el aprender se eleva en el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unciones didácticas de la imagen móv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696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 de motiv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redisposición y sensibilización hacia los materiales de aprendiza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 de ilustr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apoyo visual a la explic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 de fij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reafirman contenidos presentados por otros med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 de análisi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studio de los elementos del conju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 de demostr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representan abstracciones en forma gráf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 de recapitul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síntesis de otra explicación or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 de evalu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osibilidad de comparación: oposición, analo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 de discus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por las funciones anteri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ón de recre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MPj03987890000[1]"/>
          <p:cNvPicPr/>
          <p:nvPr/>
        </p:nvPicPr>
        <p:blipFill>
          <a:blip r:embed="rId1"/>
          <a:stretch/>
        </p:blipFill>
        <p:spPr>
          <a:xfrm>
            <a:off x="7380360" y="4581360"/>
            <a:ext cx="13604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Arial"/>
              </a:rPr>
              <a:t>LOS MCM  Y LA EDUC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93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os MCM suelen ser vehículos de transculturación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 Empiezan introduciéndose en una sociedad como objetos curiosos y terminan siendo una necesidad. El régimen industrial con que operan estos medios les hace acuñar signos y símbolos estandarizados y fomentan el consumo pasivo de estos por la ma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l educador es un agente de cambio y necesita saber qué puede hacer con los MCM para influir en el cambio positivo del educando</a:t>
            </a: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educador no debe dudar antes de emprender cualquier acción con los MCM si pretenden: dar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información, enseñar técnicas o cambiar hábit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2T01:21:03Z</dcterms:created>
  <dc:creator>Toshiba</dc:creator>
  <dc:description/>
  <cp:keywords/>
  <dc:language>en-US</dc:language>
  <cp:lastModifiedBy>Yolita</cp:lastModifiedBy>
  <dcterms:modified xsi:type="dcterms:W3CDTF">2009-05-26T21:59:34Z</dcterms:modified>
  <cp:revision>4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